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AD3-573C-4B15-B516-D6C5A20A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41F-20BB-4C9D-92C8-ADBD765F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95A-451E-4A54-96F2-9778B622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526-F529-4896-8C59-19391204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3D6D5-2B30-4F64-A43C-7639DA92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194CF-207C-4BC2-B7B3-EBBC628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C755-F1AA-4D42-94B4-B090C0B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3D332-0D44-4590-BB9E-BC2CBE3A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44331-C991-46A4-9A9C-159896F9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DC4E7-E132-4288-8A88-E47D569F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3002B-B881-4E43-8B60-5B844E7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406-463A-4379-8C6A-43E075E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4394F-CEA1-43B7-8ECA-21C51BA8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9450B-E244-44FC-9970-ED508FA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A98E3-5A93-46CF-B6EC-C86D1362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D9750-8F67-49D1-8368-8E208C3F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B7E84-4145-4C21-860F-9168506B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817-23D0-4B33-BFE8-F3068118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655-C091-4613-8CFA-718E48C1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E2C-9E9C-40A9-82FE-EDB31AD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71D-A3F9-4BDB-B44F-24077F78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587-88CC-428F-91D9-4A2B988B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807-4BFC-4B91-A045-DF205B4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BA3-E8A1-4C70-AD53-7B55695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B9A1-C1C8-46BD-AD32-FEAD940DDE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0F75-0A09-4392-B769-FCE1F7D7F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 bet you didnt no that youll sleep through one-third of you’re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ned food was first developed in order to feed napoleon’s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urnal #2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best qua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worst qual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you think s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rm-Up Sent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seniors have dicided not to go on the class trip to Arizona, consequently these Students won’t see the painted dessert, the petrified forest or the grand cany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er mid-30’s, aunt Yolanda made a u-turn and, without the benefit of even one business course, went from a full time Mother and President of the pta to ceo of her own small company, we’re very proud of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Journal #2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93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detailed description of your left sho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riday Warm-up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names of five friends or family members.  Surround each name with five vivid descriptive adjec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53:25Z</dcterms:created>
  <dc:creator>tpagel</dc:creator>
  <dc:description/>
  <dc:language>en-US</dc:language>
  <cp:lastModifiedBy>tpagel</cp:lastModifiedBy>
  <dcterms:modified xsi:type="dcterms:W3CDTF">2010-06-03T16:53:41Z</dcterms:modified>
  <cp:revision>1</cp:revision>
  <dc:subject/>
  <dc:title>Warm-Up Sentences</dc:title>
</cp:coreProperties>
</file>